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AFA-0DCF-406F-989C-3AAF90CF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BCC-2C4C-483B-9F8A-8FC4D72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DAB-B57E-4954-8BFB-5D757B05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4AD-E056-4972-908B-1CC25E7B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AAF-FE72-4F5C-8BE4-118D9FF5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835-BA4C-4BB9-ADDF-661CCEF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F1A-8C5C-4EB9-830F-83ACE8F5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A1D-04D2-410A-A346-62A0A2E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DF3-3973-4EC8-B4B7-FB53591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5C3-67D4-4EDE-871D-50F06C9B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382-A319-4285-BC1B-F98FBC9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A81-C870-40EE-8E2A-B0C44A0A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4EB-9303-41F7-AF8C-1307649C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ail.google.com/mail/?ui=2&amp;ik=3092105b5b&amp;view=att&amp;th=1358918ba7f918e6&amp;attid=0.1&amp;disp=inline&amp;realattid=f_gyql5ife0&amp;safe=1&amp;z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 Project: Fort Hu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Huger was a fort located on the Croatan Sound of Roanoke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t was used during the United States Civil War, during the Battle of Roanok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had 12 guns that were mounted on the sides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was surrendered on February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862 to the Union tro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4938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Battle Summary: Roanoke Island, NC." U.S. National Park Service - Experience Your America. Web. 16 Feb. 20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5:23:15Z</dcterms:created>
  <dc:creator>dcsuser</dc:creator>
  <dc:description/>
  <dc:language>en-US</dc:language>
  <cp:lastModifiedBy>FISHER</cp:lastModifiedBy>
  <cp:lastPrinted>2012-02-17T02:41:20Z</cp:lastPrinted>
  <dcterms:modified xsi:type="dcterms:W3CDTF">2012-02-17T02:42:03Z</dcterms:modified>
  <cp:revision>6</cp:revision>
  <dc:subject/>
  <dc:title>Unit  Project </dc:title>
</cp:coreProperties>
</file>